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265A-DF64-40FE-AF80-A72031A3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CA86-CE42-430E-8E08-9451875E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0673-F2F4-470C-98A6-190840CB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25BC-C6BD-4B4C-91D9-2329DCD9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533A-40FA-4F3F-8734-7AFD30AA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F7B1-CD5D-4B01-A4B3-F21D25A6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ED46-AF6D-42A1-B9B9-A23DAFB6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D1C7-A40A-4FBD-AC30-AD2804AB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7348-C9DE-4D76-B803-0D80A0D8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EFB1-5308-431E-9E4C-B317B98C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130D-6722-4908-8287-3B35688C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6174-1EF3-4F46-A0D7-D6D9C262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2334-D594-4D7D-9B6E-CB9469E5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660C-DE06-4315-A1A1-D4072DCB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AF69-2CDB-4C47-BBB6-6CAB5564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89D8-D31B-4871-AE26-4BCBED19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A605-BC21-4819-A89A-53716B16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FA18-A58F-42DE-AEB5-73843D97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8F9-472D-4253-827E-2CA38795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47B-0BEB-4CB4-818A-6EF06DF5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B2AB-C604-4EDC-AA7D-ABD90C9F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3819-DC9F-429E-8702-E7690349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23DC-6EFE-4375-AE2A-732E3FD3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8896-22B0-4702-B185-B09F229B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6B57-8EC7-4F25-B711-8189817E7D3E}" type="slidenum"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1EB0-FFCC-4175-8D43-F193CFCADC0E}" type="slidenum"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t.wikipedia.org/wiki/Brasil" TargetMode="External"/><Relationship Id="rId2" Type="http://schemas.openxmlformats.org/officeDocument/2006/relationships/hyperlink" Target="http://pt.wikipedia.org/wiki/Negro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t.wikipedia.org/wiki/Zumbi_dos_Palmares" TargetMode="External"/><Relationship Id="rId2" Type="http://schemas.openxmlformats.org/officeDocument/2006/relationships/hyperlink" Target="http://pt.wikipedia.org/wiki/1695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t.wikipedia.org/wiki/Movimento_Negro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t.wikipedia.org/wiki/1960" TargetMode="External"/><Relationship Id="rId2" Type="http://schemas.openxmlformats.org/officeDocument/2006/relationships/hyperlink" Target="http://pt.wikipedia.org/wiki/13_de_Maio" TargetMode="External"/><Relationship Id="rId3" Type="http://schemas.openxmlformats.org/officeDocument/2006/relationships/hyperlink" Target="http://pt.wikipedia.org/wiki/Abolicionismo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onsciência Negr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Dia Da Consciência Negr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Dia 20 De Novembr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ituais Da Consciência Negra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752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ituais Dos Homens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752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Menininha Negra é uma prova de  orgulho da Consciência Negra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752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im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♥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Comic Sans MS"/>
              </a:rPr>
              <a:t>Alunas: Rubya e Letici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Comic Sans MS"/>
              </a:rPr>
              <a:t>N° 30 e 32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Comic Sans MS"/>
              </a:rPr>
              <a:t>Professora: Nilz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Comic Sans MS"/>
              </a:rPr>
              <a:t>7° Ano B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 Consciência Negr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 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Dia da Consciência Negra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é celebrado em 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20 de Novembro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no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1"/>
              </a:rPr>
              <a:t>Brasil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 e é dedicado à reflexão sobre a inserção do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2"/>
              </a:rPr>
              <a:t>negro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 na sociedade brasileira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Semana Da Consciênci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gr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A data foi escolhida por coincidir com o dia da morte de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1"/>
              </a:rPr>
              <a:t>Zumbi dos Palmares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, em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2"/>
              </a:rPr>
              <a:t>1695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gumas entidades como o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1"/>
              </a:rPr>
              <a:t>Movimento Negro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 maior do gênero no país) organizam palestras e eventos educativos, visando principalmente crianças negras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ocura-se.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Procura-se evitar o desenvolvimento do auto-preconceito, ou seja, da inferiorizarão perante a sociedade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utros temas debatidos pela comunidade negra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utros temas debatidos pela comunidade negra e que ganham evidência neste dia são: inserção do negro no mercado de trabalho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tas Universitárias.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se há discriminação por parte da polícia, identificação de etnias, moda e beleza negra, etc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 dia é celebrado desde a década de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1"/>
              </a:rPr>
              <a:t>1960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embora só tenha ampliado seus eventos nos últimos anos; até então, o movimento negro precisava se contentar com o dia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2"/>
              </a:rPr>
              <a:t>13 de Maio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3"/>
              </a:rPr>
              <a:t>Abolição da Escravatura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 – comemoração que tem sido rejeitada por enfatizar muitas vezes a "generosidade" da princesa Isabel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Capoeira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684360" y="1978200"/>
            <a:ext cx="777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6:19:03Z</dcterms:created>
  <dc:creator>SEDMS</dc:creator>
  <dc:description/>
  <dc:language>en-US</dc:language>
  <cp:lastModifiedBy>administradorr</cp:lastModifiedBy>
  <dcterms:modified xsi:type="dcterms:W3CDTF">2010-11-09T17:35:45Z</dcterms:modified>
  <cp:revision>2</cp:revision>
  <dc:subject/>
  <dc:title>Consciência Negra</dc:title>
</cp:coreProperties>
</file>